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2"/>
          <p:cNvSpPr>
            <a:spLocks noGrp="1"/>
          </p:cNvSpPr>
          <p:nvPr>
            <p:ph type="sldImg"/>
          </p:nvPr>
        </p:nvSpPr>
        <p:spPr>
          <a:xfrm>
            <a:off x="1184400" y="701640"/>
            <a:ext cx="461808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
          <p:cNvSpPr/>
          <p:nvPr/>
        </p:nvSpPr>
        <p:spPr>
          <a:xfrm>
            <a:off x="6252120" y="8873280"/>
            <a:ext cx="932760" cy="303480"/>
          </a:xfrm>
          <a:prstGeom prst="rect">
            <a:avLst/>
          </a:prstGeom>
          <a:noFill/>
          <a:ln w="0">
            <a:noFill/>
          </a:ln>
        </p:spPr>
        <p:style>
          <a:lnRef idx="0"/>
          <a:fillRef idx="0"/>
          <a:effectRef idx="0"/>
          <a:fontRef idx="minor"/>
        </p:style>
        <p:txBody>
          <a:bodyPr wrap="none" lIns="91800" rIns="91800" tIns="45000" bIns="45000" anchor="ctr">
            <a:sp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CA8292-ECF1-4FCF-8FD3-3EED95DFA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lassical ergonomics</a:t>
            </a:r>
            <a:r>
              <a:rPr b="0" lang="en-US" sz="1200" spc="-1" strike="noStrike">
                <a:solidFill>
                  <a:srgbClr val="000000"/>
                </a:solidFill>
                <a:latin typeface="Times New Roman"/>
              </a:rPr>
              <a:t>: also called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nterface ergonomic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interface referred to is the person/ machine interface of controls and displays and the principle contribution of the human factors expert is the improved design of dials and meters, control knobs and panel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rror ergonomics</a:t>
            </a:r>
            <a:r>
              <a:rPr b="0" lang="en-US" sz="1200" spc="-1" strike="noStrike">
                <a:solidFill>
                  <a:srgbClr val="000000"/>
                </a:solidFill>
                <a:latin typeface="Times New Roman"/>
              </a:rPr>
              <a:t>: The is the study and explanation of human error in systems. Th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zero defec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pproach assumes that human error is the result of inadequate motivation, c.f. the examples of accidents and error attrib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ystems ergonomics</a:t>
            </a:r>
            <a:r>
              <a:rPr b="0" lang="en-US" sz="1200" spc="-1" strike="noStrike">
                <a:solidFill>
                  <a:srgbClr val="000000"/>
                </a:solidFill>
                <a:latin typeface="Times New Roman"/>
              </a:rPr>
              <a:t>: This approach developed in the USA in the 1950s, and takes a more holistic approach to user-system dyad. The user and the system are seen as a single interacting system which is placed within a work context. The approach differs from user-centred design as the designers and human factors experts still view the user as just one part of the system, whereas user-centred design focuses more on the user’s needs and perspective than those of the system, tasks and activities per 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ser centred design</a:t>
            </a:r>
            <a:r>
              <a:rPr b="0" lang="en-US" sz="1200" spc="-1" strike="noStrike">
                <a:solidFill>
                  <a:srgbClr val="000000"/>
                </a:solidFill>
                <a:latin typeface="Times New Roman"/>
              </a:rPr>
              <a:t>: (cf. Norman, 1988) involves focusing on the user’s needs, carrying out an activity/task analysis as well as a general requirements analysis, carrying out early testing and evaluation and designing itera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cio Technical Systems design</a:t>
            </a:r>
            <a:r>
              <a:rPr b="0" lang="en-US" sz="1200" spc="-1" strike="noStrike">
                <a:solidFill>
                  <a:srgbClr val="000000"/>
                </a:solidFill>
                <a:latin typeface="Times New Roman"/>
              </a:rPr>
              <a:t>: see Cl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184400" y="70164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unctionality</a:t>
            </a:r>
            <a:r>
              <a:rPr b="0" lang="en-US" sz="1200" spc="-1" strike="noStrike">
                <a:solidFill>
                  <a:srgbClr val="000000"/>
                </a:solidFill>
                <a:latin typeface="Times New Roman"/>
              </a:rPr>
              <a:t>: What something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fficiency of a system</a:t>
            </a:r>
            <a:r>
              <a:rPr b="0" lang="en-US" sz="1200" spc="-1" strike="noStrike">
                <a:solidFill>
                  <a:srgbClr val="000000"/>
                </a:solidFill>
                <a:latin typeface="Times New Roman"/>
              </a:rPr>
              <a:t>: can be measured through the use of resources such as processor time, memory, network access, system facilities, disk space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Maintainability</a:t>
            </a:r>
            <a:r>
              <a:rPr b="0" lang="en-US" sz="1200" spc="-1" strike="noStrike">
                <a:solidFill>
                  <a:srgbClr val="000000"/>
                </a:solidFill>
                <a:latin typeface="Times New Roman"/>
              </a:rPr>
              <a:t>: as systems get larger and more costly, the need for a life-long time in service increases in parallel. To help achieve this, designs must allow for future mod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liability</a:t>
            </a:r>
            <a:r>
              <a:rPr b="0" lang="en-US" sz="1200" spc="-1" strike="noStrike">
                <a:solidFill>
                  <a:srgbClr val="000000"/>
                </a:solidFill>
                <a:latin typeface="Times New Roman"/>
              </a:rPr>
              <a:t> is concerned with the dynamic properties of the eventual system and involves the designer in making predictions about behavioural issues. We need to know if the system is going to be complete (in the sense that it will be able to handle all combinations of events and system states), consistent (in that its behaviour will be as expected and will be repeatable, regardless of the overall system loading at any time) and robust (when faced with component failure or some similar conflict (for example, if the printer used for logging data in a chemical process-control plant fails for some reason), this should not be able to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hang’ the whole system but should be handled according to the philosophy summed up in the term graceful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2"/>
          <p:cNvSpPr>
            <a:spLocks noGrp="1"/>
          </p:cNvSpPr>
          <p:nvPr>
            <p:ph type="sldImg"/>
          </p:nvPr>
        </p:nvSpPr>
        <p:spPr>
          <a:xfrm>
            <a:off x="1184400" y="701640"/>
            <a:ext cx="4618080" cy="34639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but what is it?</a:t>
            </a:r>
            <a:endParaRPr b="0" lang="en-US" sz="1200" spc="-1" strike="noStrike">
              <a:solidFill>
                <a:srgbClr val="000000"/>
              </a:solidFill>
              <a:latin typeface="Times New Roman"/>
            </a:endParaRPr>
          </a:p>
        </p:txBody>
      </p:sp>
      <p:sp>
        <p:nvSpPr>
          <p:cNvPr id="162" name="PlaceHolder 2"/>
          <p:cNvSpPr>
            <a:spLocks noGrp="1"/>
          </p:cNvSpPr>
          <p:nvPr>
            <p:ph type="sldImg"/>
          </p:nvPr>
        </p:nvSpPr>
        <p:spPr>
          <a:xfrm>
            <a:off x="1184400" y="701640"/>
            <a:ext cx="4618080" cy="34639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 concepts: FUNCTIONALITY, USABILITY, LEARNABILITY</a:t>
            </a:r>
            <a:endParaRPr b="0" lang="en-US" sz="1200" spc="-1" strike="noStrike">
              <a:solidFill>
                <a:srgbClr val="000000"/>
              </a:solidFill>
              <a:latin typeface="Times New Roman"/>
            </a:endParaRPr>
          </a:p>
        </p:txBody>
      </p:sp>
      <p:sp>
        <p:nvSpPr>
          <p:cNvPr id="164" name="PlaceHolder 2"/>
          <p:cNvSpPr>
            <a:spLocks noGrp="1"/>
          </p:cNvSpPr>
          <p:nvPr>
            <p:ph type="sldImg"/>
          </p:nvPr>
        </p:nvSpPr>
        <p:spPr>
          <a:xfrm>
            <a:off x="1184400" y="701640"/>
            <a:ext cx="4618080" cy="34639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systems: often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gnitive constraints: black box problems: users don’t’ get adequate feedback of what is going on, lack of visibility. See Norman for examples and also note the crashes which will be discussed in le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and organisation factors: communica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he design and construction of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of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2"/>
          <p:cNvSpPr>
            <a:spLocks noGrp="1"/>
          </p:cNvSpPr>
          <p:nvPr>
            <p:ph type="sldImg"/>
          </p:nvPr>
        </p:nvSpPr>
        <p:spPr>
          <a:xfrm>
            <a:off x="1184400" y="701640"/>
            <a:ext cx="4618080" cy="34639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sing the human-machine system requires an understanding not only of the machinery itself but also an understanding of how human beings respond to given situations, how they achieve their goals using devices, how they come to choose the particular actions they choose, how they learn to operate particular artifacts, and so on. More generally it requires knowing, why they do what they do when they do it. The study of why human being do what they do when they do, given certain task objectives is the point of this course.</a:t>
            </a:r>
            <a:endParaRPr b="0" lang="en-US" sz="1200" spc="-1" strike="noStrike">
              <a:solidFill>
                <a:srgbClr val="000000"/>
              </a:solidFill>
              <a:latin typeface="Times New Roman"/>
            </a:endParaRPr>
          </a:p>
        </p:txBody>
      </p:sp>
      <p:sp>
        <p:nvSpPr>
          <p:cNvPr id="144" name="PlaceHolder 2"/>
          <p:cNvSpPr>
            <a:spLocks noGrp="1"/>
          </p:cNvSpPr>
          <p:nvPr>
            <p:ph type="sldImg"/>
          </p:nvPr>
        </p:nvSpPr>
        <p:spPr>
          <a:xfrm>
            <a:off x="1184400" y="701640"/>
            <a:ext cx="4618080" cy="34639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Human Factors: The purpose of human factors (HF) research and practice is to maximise the safety and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healthines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of work environments and work practices, and to ensure the usability of tools, devices and artifacts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human factors is concerned with providing a good ‘fit’ between people and their work or leisure environments. ‘Fit’ might be the literal word as with the design of ejector seats for RAF aircraft (e.g. ejector seats designed for average size) or might be more metaphorical in the sense (e.g. designing to complement task activities, e.g. the chapati kitchen). (OHP: showing anthropometrics and kitc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y, the ‘fit’ can be made in either direction. We can ‘fit’ the environment to the person (e.g. by providing adjustable ejector seats to accommodate a range of heights, weights, etc.) or we can fit the person to the environment. (e.g. using people of a certain build, e.g. Suckling airlines in Cambridge). The two together traditionally make up industrial psychology and used to define occupational psychology (although now the remit of occupational psychology is very large ind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2"/>
          <p:cNvSpPr>
            <a:spLocks noGrp="1"/>
          </p:cNvSpPr>
          <p:nvPr>
            <p:ph type="sldImg"/>
          </p:nvPr>
        </p:nvSpPr>
        <p:spPr>
          <a:xfrm>
            <a:off x="1184400" y="701640"/>
            <a:ext cx="4618080" cy="3463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mit of Human Factors: Although historically concerned with work setting, HF is now concerned with the usability of all tools, objects, environments, etc, including objects and environments used for leisure activities, e.g. video interfaces, movie theatres, chain restaurants, etc.</a:t>
            </a: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184400" y="701640"/>
            <a:ext cx="4618080" cy="34639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iorities in Human Factors: A priority is consideration of users’ physical, behavioural and information processing characteristics and requirements. Experience has shown that failure to deal with such characteristics can lead to wasted functionality, user frustration, inefficient practices, discomfort and error-prone activity. However, much of HF work is a trade-off between considering the user and economic and political constraints.</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1184400" y="701640"/>
            <a:ext cx="4618080" cy="3463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roducts of Human Factors: Whilst HF studies are aimed at evaluating particular equipment and work space layouts (e.g. kitchen layout, display design, work surface heights, chair design, computer interfaces, aircraft cockpit layouts and so on), a more general aim is to develop principles  (list from Norman, 1988) and models  (e.g. the Model Human Processor, Card, Moran and Newell, 1983) about how people interact with their environment and how that interaction affects their behaviour. These principles can be used to derive performance predictions for the development of design guidelines  (an example from Newman and Lamming, 1994) and legally enforceable standards (an example from Pheasant, or more information about different organisations which deal with standards) The evaluation, analysis and synthesis techniques are all methods which are also a product of human factors.</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84400" y="701640"/>
            <a:ext cx="4618080" cy="34639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ece </a:t>
            </a:r>
            <a:r>
              <a:rPr b="0" lang="en-US" sz="1200" spc="-1" strike="noStrike">
                <a:solidFill>
                  <a:srgbClr val="000000"/>
                </a:solidFill>
                <a:latin typeface="Times New Roman"/>
              </a:rPr>
              <a:t>et al.: Human-Computer Interaction by J.P., Yvonne Rogers, Helen Sharp, David Benyon, Simon Holland, Tom Carey.  © 1994 The Open University.  Published by Addison-Wes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2"/>
          <p:cNvSpPr>
            <a:spLocks noGrp="1"/>
          </p:cNvSpPr>
          <p:nvPr>
            <p:ph type="sldImg"/>
          </p:nvPr>
        </p:nvSpPr>
        <p:spPr>
          <a:xfrm>
            <a:off x="1184400" y="701640"/>
            <a:ext cx="4618080" cy="34639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M: A Design Evaluation Checklist for User-System Interface Software By S.L. Smith and J.N. Mosier.  Oct. 1984  (National Technical Information Service (USA) report #ESD-TR-84-358/NTIS document number AD A158 5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ce: vide in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n: UCD?</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184400" y="701640"/>
            <a:ext cx="4618080" cy="3463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DAAB-5E6F-42F2-B573-B70DB6248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F673-5756-4168-B7CC-35C6D816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305F6-F93B-4B19-89AE-6ED52EC75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60734-9B38-40C7-88F7-8BE1308C7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607D9-26FF-4841-BB82-35125DC95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D0C83-C646-47C9-A092-47E24AE1E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21228-B574-4CF6-9D2F-AA14EE8EC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B57A2-D2E9-4309-9400-0828F228E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FEB7-AE1A-453B-9554-5205B742A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EF16D-513E-416D-B4F9-ED3EC9595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FD37-A441-4777-8A13-F46B00E9A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D08E1-4BF9-4D53-83C6-2D971269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1098-259E-4DBA-B685-54680321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4A016-3BC7-4BDA-ACBF-83067FBEE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B9D54-0739-4D9D-967E-DDCFF8534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FA5AF-C879-4C89-A61A-84F26D428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F5339-D20C-497B-9532-C4EE95CAE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C1D2-DB57-42BA-AA28-C3383633E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F785A-2DC2-4889-B9D5-8014643AA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88425-E5B2-4BAB-82A3-C799E961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D1DF-72E6-40CE-BF87-01E643B69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49AB-86DE-49CB-A1A6-0212C4D50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8A31-01DF-4C53-A2E4-0C9A23BE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CB323-1DF5-4F8C-9D49-C55920E1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8CD7-8544-43A2-9D67-92EC652F29B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0202-2562-4EEC-9C3A-80DBF5583E5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28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Factors and HCI Basics</a:t>
            </a:r>
            <a:endParaRPr b="0" lang="en-US" sz="4400" spc="-1" strike="noStrike">
              <a:solidFill>
                <a:srgbClr val="333399"/>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CS 4163</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pproaches to HF</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al ergonomics: lab-ba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ergonomics: zero defects error sto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s ergonomics: interaction dya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centred design: contextu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 centred design: contextual and broader political issu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56A34A4-C3EB-4279-A426-500FCCFFCB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ts in HF</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ity + usability + learnability = usefulnes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a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a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iabilit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81995D0-800E-400C-9CBF-9A6A30438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ts in HF</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bil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asily functionality can be utilised by users, considering anthropometrics, core tasks, cognitive issues, social context, et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functional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effici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clarity (contributes to explicitn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BE25698-19F3-44E0-AD0A-784B29FB8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ts in HF</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ency</a:t>
            </a:r>
            <a:endParaRPr b="0" lang="en-US" sz="2800" spc="-1" strike="noStrike">
              <a:solidFill>
                <a:srgbClr val="000000"/>
              </a:solidFill>
              <a:latin typeface="Tahoma"/>
            </a:endParaRPr>
          </a:p>
          <a:p>
            <a:pPr lvl="1" marL="743040" indent="-285840">
              <a:spcBef>
                <a:spcPts val="601"/>
              </a:spcBef>
              <a:buClr>
                <a:srgbClr val="000000"/>
              </a:buClr>
              <a:buSzPct val="5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tributes to explicitnes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ve feedback</a:t>
            </a:r>
            <a:endParaRPr b="0" lang="en-US" sz="2800" spc="-1" strike="noStrike">
              <a:solidFill>
                <a:srgbClr val="000000"/>
              </a:solidFill>
              <a:latin typeface="Tahoma"/>
            </a:endParaRPr>
          </a:p>
          <a:p>
            <a:pPr lvl="1" marL="743040" indent="-285840">
              <a:spcBef>
                <a:spcPts val="601"/>
              </a:spcBef>
              <a:buClr>
                <a:srgbClr val="000000"/>
              </a:buClr>
              <a:buSzPct val="5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ibutes to explicitnes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ty and contro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prevention and contro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guidance and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aid learnabili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89BC5D-59C1-4517-8368-3EF41BE180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Other Definitions of Usability</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Eason</a:t>
            </a:r>
            <a:r>
              <a:rPr b="0" lang="en-US" sz="2800" spc="-1" strike="noStrike">
                <a:solidFill>
                  <a:srgbClr val="000000"/>
                </a:solidFill>
                <a:latin typeface="Tahoma"/>
              </a:rPr>
              <a:t> (1984) ‘the major indicator of usability is whether a system or facility is used’</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SO</a:t>
            </a:r>
            <a:r>
              <a:rPr b="0" lang="en-US" sz="2800" spc="-1" strike="noStrike">
                <a:solidFill>
                  <a:srgbClr val="000000"/>
                </a:solidFill>
                <a:latin typeface="Tahoma"/>
              </a:rPr>
              <a:t>: ‘the usability of a product is the degree to which specific users can achieve their goals within a particular environment, effectively, efficiently, comfortably and in an acceptable mann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C5885E6-A0F3-45A9-A925-3AA7F8A6F2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 of Usability</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TSI</a:t>
            </a:r>
            <a:r>
              <a:rPr b="0" lang="en-US" sz="3200" spc="-1" strike="noStrike">
                <a:solidFill>
                  <a:srgbClr val="000000"/>
                </a:solidFill>
                <a:latin typeface="Tahoma"/>
              </a:rPr>
              <a:t>: performance  (objective measures) &amp; attitude (likeability </a:t>
            </a:r>
            <a:r>
              <a:rPr b="0" lang="en-US" sz="3200" spc="-1" strike="noStrike">
                <a:solidFill>
                  <a:srgbClr val="000000"/>
                </a:solidFill>
                <a:latin typeface="Tahoma"/>
                <a:ea typeface="Tahoma"/>
              </a:rPr>
              <a:t>—</a:t>
            </a:r>
            <a:r>
              <a:rPr b="0" lang="en-US" sz="3200" spc="-1" strike="noStrike">
                <a:solidFill>
                  <a:srgbClr val="000000"/>
                </a:solidFill>
                <a:latin typeface="Tahoma"/>
              </a:rPr>
              <a:t> subjective measur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hackel</a:t>
            </a:r>
            <a:r>
              <a:rPr b="0" lang="en-US" sz="3200" spc="-1" strike="noStrike">
                <a:solidFill>
                  <a:srgbClr val="000000"/>
                </a:solidFill>
                <a:latin typeface="Tahoma"/>
              </a:rPr>
              <a:t> (1991): effectiveness, learnability, flexibility and attitude</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Booth</a:t>
            </a:r>
            <a:r>
              <a:rPr b="0" lang="en-US" sz="3200" spc="-1" strike="noStrike">
                <a:solidFill>
                  <a:srgbClr val="000000"/>
                </a:solidFill>
                <a:latin typeface="Tahoma"/>
              </a:rPr>
              <a:t> (1989) usefulness — effectiveness and ease of use, learnability and attitude and likeabilit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F33F2EE-B0A9-49EF-A9B3-C94E2F2E74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Useful Terms  </a:t>
            </a:r>
            <a:r>
              <a:rPr b="0" lang="en-US" sz="3600" spc="-1" strike="noStrike">
                <a:solidFill>
                  <a:srgbClr val="333399"/>
                </a:solidFill>
                <a:latin typeface="Tahoma"/>
              </a:rPr>
              <a:t>(1 of 2)</a:t>
            </a:r>
            <a:endParaRPr b="0" lang="en-US" sz="36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metrics, biomechanic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haviour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gni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ycho-soc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o-technical</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0E1D43C-F590-43B0-9573-66DA6C3AF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Useful Terms </a:t>
            </a:r>
            <a:r>
              <a:rPr b="0" lang="en-US" sz="3600" spc="-1" strike="noStrike">
                <a:solidFill>
                  <a:srgbClr val="333399"/>
                </a:solidFill>
                <a:latin typeface="Tahoma"/>
              </a:rPr>
              <a:t>(2 of 2)</a:t>
            </a:r>
            <a:endParaRPr b="0" lang="en-US" sz="36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Core’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kehold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rs, opera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nt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0AFC5EF-15B2-46E1-8310-615C80D7CD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Problems in Contemporary HF</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ze of system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gnitive constraints: black box problem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and organisation factors: communication problem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s with the design and construction of system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s of automa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A3516E7-3B80-4CCB-9F72-2823FD66A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0720"/>
            <a:ext cx="784872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F needs to go beyond recommendations about the design of technology</a:t>
            </a:r>
            <a:endParaRPr b="0" lang="en-US" sz="4400" spc="-1" strike="noStrike">
              <a:solidFill>
                <a:srgbClr val="333399"/>
              </a:solidFill>
              <a:latin typeface="Tahoma"/>
            </a:endParaRPr>
          </a:p>
        </p:txBody>
      </p:sp>
      <p:sp>
        <p:nvSpPr>
          <p:cNvPr id="140" name="PlaceHolder 2"/>
          <p:cNvSpPr>
            <a:spLocks noGrp="1"/>
          </p:cNvSpPr>
          <p:nvPr>
            <p:ph/>
          </p:nvPr>
        </p:nvSpPr>
        <p:spPr>
          <a:xfrm>
            <a:off x="1182600" y="3276360"/>
            <a:ext cx="7772400" cy="2779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has to offer a conceptual basis for these recommend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psychological and psycho-social factor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FF598E0-534D-4289-A92F-B879AF7AA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al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ing Human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Human Facto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do we need Human Facto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o we apply Human Factors expertise? </a:t>
            </a:r>
            <a:endParaRPr b="0" lang="en-US" sz="2800" spc="-1" strike="noStrike">
              <a:solidFill>
                <a:srgbClr val="000000"/>
              </a:solidFill>
              <a:latin typeface="Tahoma"/>
            </a:endParaRPr>
          </a:p>
          <a:p>
            <a:pPr lvl="2" marL="1143000" indent="-228600">
              <a:spcBef>
                <a:spcPts val="601"/>
              </a:spcBef>
              <a:buClr>
                <a:srgbClr val="000000"/>
              </a:buClr>
              <a:buSzPct val="50000"/>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sign cycl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D1CAAD2-84F1-475D-B7E8-6ABE377CE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ful Reading Heuristic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o what end and on whose behalf does the HF professional analyse an object or someone’s task performance?</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what is the purpose of the analysi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on whose behalf?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who are the stakeholder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what are the conditions of emergence?</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what is the view of the worker (e.g. U.S. Army doesn’t bother with designing as much as developing.  Because they have the resources (time and labour) for train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DDE2506-F29C-48CD-AEDA-80C228973E42}"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im/Purpos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m = to provide a good fit between people and the environ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 = to improve work/leisure environments and work practic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ing safety, satisfaction, efficiency issu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2FF737F-7886-4A5B-9596-B476E604F1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ng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obiles, manufacturing, assembly, business offices, kitche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ly work only, but now leisure too</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DBD002D-0DF7-4040-BC82-045A3B7B23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rioritie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360" rIns="90360" tIns="44280" bIns="4428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se the us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economics and politics matte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ahoma"/>
              </a:rPr>
              <a:t> </a:t>
            </a:r>
            <a:r>
              <a:rPr b="0" lang="en-US" sz="3200" spc="-1" strike="noStrike">
                <a:solidFill>
                  <a:srgbClr val="000000"/>
                </a:solidFill>
                <a:latin typeface="Tahoma"/>
              </a:rPr>
              <a:t>Trade-off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0162BCA-0A84-419F-B56F-AF36ACF63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ms of Produc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6C4F614-AA17-47B9-B852-CDBBE86486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ard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erned with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 adaptabil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man variabilit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ally enforce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see </a:t>
            </a:r>
            <a:r>
              <a:rPr b="0" i="1" lang="en-US" sz="3200" spc="-1" strike="noStrike">
                <a:solidFill>
                  <a:srgbClr val="000000"/>
                </a:solidFill>
                <a:latin typeface="Tahoma"/>
              </a:rPr>
              <a:t>Preece </a:t>
            </a:r>
            <a:r>
              <a:rPr b="0" lang="en-US" sz="3200" spc="-1" strike="noStrike">
                <a:solidFill>
                  <a:srgbClr val="000000"/>
                </a:solidFill>
                <a:latin typeface="Tahoma"/>
              </a:rPr>
              <a:t>et al.</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390EBAF-0A71-4B28-850A-6CC9A9424A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elines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ve and offer some general guidelines for making design decision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Smith and Mosier; Preece; Norman</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opt a consistent organisation for the location of various display features, insofar as possible, for all displays’</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a:t>
            </a:r>
            <a:r>
              <a:rPr b="0" i="1" lang="en-US" sz="2800" spc="-1" strike="noStrike">
                <a:solidFill>
                  <a:srgbClr val="000000"/>
                </a:solidFill>
                <a:latin typeface="Tahoma"/>
              </a:rPr>
              <a:t>Preece </a:t>
            </a:r>
            <a:r>
              <a:rPr b="0" lang="en-US" sz="2800" spc="-1" strike="noStrike">
                <a:solidFill>
                  <a:srgbClr val="000000"/>
                </a:solidFill>
                <a:latin typeface="Tahoma"/>
              </a:rPr>
              <a:t>et al. (chapter 24)</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D011388-B644-4A87-B816-0852E7E548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nciples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ve</a:t>
            </a: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rinciples which can underpin design decisions</a:t>
            </a: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not specify the limits of human capabilities (unlike standards) </a:t>
            </a: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general than guidelines</a:t>
            </a:r>
            <a:endParaRPr b="0" lang="en-US" sz="3200" spc="-1" strike="noStrike">
              <a:solidFill>
                <a:srgbClr val="000000"/>
              </a:solidFill>
              <a:latin typeface="Tahoma"/>
            </a:endParaRPr>
          </a:p>
          <a:p>
            <a:pPr lvl="2" marL="1131480" indent="-226080">
              <a:spcBef>
                <a:spcPts val="601"/>
              </a:spcBef>
              <a:buClr>
                <a:srgbClr val="000000"/>
              </a:buClr>
              <a:buSzPct val="50000"/>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orman: feedback, consistency, visibility, understand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B5B5BFA-BF66-47CC-BD70-6143995480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8T10:01:56Z</dcterms:created>
  <dc:creator>James Blustein</dc:creator>
  <dc:description>Based on a Power Point presentation from Laura Leventhal at BGSU Computer Science</dc:description>
  <dc:language>en-US</dc:language>
  <cp:lastModifiedBy>Preferred Customer</cp:lastModifiedBy>
  <dcterms:modified xsi:type="dcterms:W3CDTF">2001-06-04T01:37:53Z</dcterms:modified>
  <cp:revision>40</cp:revision>
  <dc:subject>Human Computer Interaction intro slides</dc:subject>
  <dc:title>Human Factors and HCI Basics</dc:title>
</cp:coreProperties>
</file>