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 Norman’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Invisible Computer: Why Good Products Can Fail, The Personal Computer Is So Complex, And Information Appliances Are the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MIT Press, ©1998 by the author) has a good intro that could be used to update these sl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7150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eker:   Ronald Bae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ision of Education in User-Centered System and Interface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IGCHI Bullet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.20 n.3 (Jan.) 19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and comment in text about  fig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is the complexity of H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ilver Bulle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s of HCI Design and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Brad A. M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.I n.1 (Jan. 1994), pp. 73 – 8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debar explaining why developing UIs is so complex and difficult (p. 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&amp;H: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borah   Hix and H. Rex Hart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veloping User Interfaces: Ensuring Usability through Product &amp;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1993 by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l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+h_1.pd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igures 1.1, and 1.2, and Table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&amp;H: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borah   Hix and H. Rex Hart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eveloping User Interfaces: Ensuring Usability through Product &amp;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1993 by John Wiley &amp; Sons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il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+h_1.pd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igures 1.1, and 1.2, and Table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line for concern about usabilty (computers and other de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nov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 no one would claim that the Wright Flyer was usable or easy to fly.  The challenge was to develop the technology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hnology is the limiting fac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ors are still dedicated enthusias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arly years of aviation,  every plane was custom built, usually by the pi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chnology is still the limiting factor, but the demand for more operators means that it is less controlled by enthusi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g.  WW1 pilots, Red Baron...).  Selection and training become cri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factors starts to be important - ensuring that the required skills are train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ing factor is no longer what the technology can do, but what the operator can learn to 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Once the human becomes a limiting factor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concern about usabilit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becomes a foc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eld of cockpit design and cockpit ergonomics became a serious area of study during and after WWI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Trends in computing that led to the emergence of the field of H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0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ch processing: the user interfaces were card reader, printed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sharing - early 1960'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sharing and Distribution processing (60's) remote data  entry/ display: user interfaces were Tele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0's/80'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directions in 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-line(interactive interfaces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s &amp; micros (mid 70'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and-alone;   personal comput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tations -80'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erox Parc - star, Lisa -&gt; Macintos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 that changed over time and affected hc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0's                Graph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D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0'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a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'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-mapp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ysiwy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A7C-5589-4D9F-A8D3-E22EA464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A9B-C417-4E50-A154-9784A4E4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8583-3DA6-460A-BE12-141A8EBA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D73C-7249-4250-B055-7C9BC789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80B1-7DE5-4151-8A3D-54FA8ED9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2808-C93B-47DD-B816-D5FB8C92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FC79-B0F3-4B54-B485-8B8AA07D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2DBD-EF89-4CBC-81F3-8631988F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9426-645E-44FC-BD96-629869ED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4414-59EA-47BD-9A9F-4245B4EA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88C8-FA93-4015-9818-CCAEFCBE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495-D90D-4BF3-86C0-C08527B5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9D6E-BA0A-48C4-A498-876AE290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E532-6C1A-4C05-AB05-697CFF12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8F39-C8BC-4351-9073-E8696242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8CF8-59CC-4379-BA42-8DFBFDE0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8678-9858-4AAD-BAEB-7DF73237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0160-988B-480A-AF0B-2EA0BBD5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F17-D4B8-40B4-80FE-4DE49189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934-6F6E-4228-8FF7-450DE89C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32F-37F6-468F-8CD1-9C370517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E5E5-9668-4832-91BE-F027E791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540-C736-4CA4-A2B4-0B8F5A16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8CF-CFB6-4A24-852C-7C4B630B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B5CC-0788-4A4C-A8A8-AD65F635A7B3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B659-0BDC-4F4A-A4C7-08132B81A28B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storical Perspective on HC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S 4163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roader Issues (3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Baecker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figur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No silver bullet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deba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g. 1.2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(from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Hix &amp; Harts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58DB-3991-412E-B5F8-9CCC0E56616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initions of HCI and Usabi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CI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45472"/>
              </a:buClr>
              <a:buSzPct val="8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uman-computer interaction is the discipline concerned with the design, evaluation and implementation of interactive computing systems for human use and with the study of the major phenomena surrounding them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sabilit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545472"/>
              </a:buClr>
              <a:buSzPct val="8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 interface is appropriate for the users for the task that they are using for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01A-33E1-4326-B1B4-2A548951AD4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suring Usabi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wo components: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product — the user interface itself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ntent, human factors issues, design guidelines and interaction styles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process — how to develop the U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lifecycle, methods, techniques and tools for developing and UI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211D-7195-4E7E-91CB-33E568EB192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havioral &amp; Constructional Domai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e Table 1.1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(from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Hix &amp; Harts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ur focus is on the behavioural domai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021-89C8-4240-9848-B1192C0EF2BB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73200" y="3124080"/>
            <a:ext cx="7569000" cy="0"/>
          </a:xfrm>
          <a:prstGeom prst="line">
            <a:avLst/>
          </a:prstGeom>
          <a:ln w="127080">
            <a:solidFill>
              <a:srgbClr val="c7c7d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4200" y="3414600"/>
            <a:ext cx="1604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Innovatio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23160" y="3338640"/>
            <a:ext cx="20451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Technology is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the limiting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fact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86200" y="3262320"/>
            <a:ext cx="1748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Demand f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operato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80240" y="3276720"/>
            <a:ext cx="1301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Concer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f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usability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chnological Innovations Follow a Time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BD51-01ED-4C3F-80A6-5526F4E39F7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ree Trends in CS Raise Awareness of Usabi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Hardware environmen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ypes/sophistication of user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ew application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87A-C3F4-4549-9D3C-FBB3B817567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01800" y="2743200"/>
            <a:ext cx="7264440" cy="0"/>
          </a:xfrm>
          <a:prstGeom prst="line">
            <a:avLst/>
          </a:prstGeom>
          <a:ln w="127080">
            <a:solidFill>
              <a:srgbClr val="c7c7d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6800" y="2728800"/>
            <a:ext cx="14875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1950’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atch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ocessi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15720" y="2805120"/>
            <a:ext cx="1726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1960’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ime-shari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14440" y="2805120"/>
            <a:ext cx="101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1980’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19160" y="2805120"/>
            <a:ext cx="101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1970’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37600" y="2805120"/>
            <a:ext cx="2216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1990’s / forwar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77320" y="3490920"/>
            <a:ext cx="1659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teractiv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(on-line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mini/micro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87360" y="3414600"/>
            <a:ext cx="23958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workstation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graphical display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ocessing powe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for multimedi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dware Chan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E3CA-CC5A-4139-B9D6-C9523A956E7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er Chan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mputing professionals vs. Discretionary us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portion has changed: more discretionary users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sers are more sophisticated and demanding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880-E8C3-4383-85A6-7755D3A72AA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01800" y="2743200"/>
            <a:ext cx="7264440" cy="0"/>
          </a:xfrm>
          <a:prstGeom prst="line">
            <a:avLst/>
          </a:prstGeom>
          <a:ln w="127080">
            <a:solidFill>
              <a:srgbClr val="c7c7d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4280" y="2728800"/>
            <a:ext cx="25354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1950’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atch tex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A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omputational s/w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meteorologica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ank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14440" y="2805120"/>
            <a:ext cx="1011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1980’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17360" y="2805120"/>
            <a:ext cx="148752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1970’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heape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graphic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mprove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inte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small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usiness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omputin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37600" y="2805120"/>
            <a:ext cx="2216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1990’s / forwar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79840" y="3489480"/>
            <a:ext cx="16574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72960" y="3567240"/>
            <a:ext cx="318780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ersonal computer app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(e.g. spreadsheets, word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processing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it-mapped graphic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hypertex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multimedi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 Chan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7E9-3CA8-4541-997D-BA9BB08A360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to Improve UI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ittle agreement in late 1970s and 80s.  Even now, many view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llow guidelines — intuitiv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fine and try prototypes — quasi-experientia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xperiments:  laboratory </a:t>
            </a:r>
            <a:r>
              <a:rPr b="0" lang="en-US" sz="2800" spc="-1" strike="noStrike">
                <a:solidFill>
                  <a:srgbClr val="545472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observationa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45472"/>
              </a:buClr>
              <a:buSzPct val="8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e will look at all three approach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0AA-953A-4C3C-944B-2DB7B7AF4CF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roader Issues (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HCI is </a:t>
            </a:r>
            <a:r>
              <a:rPr b="0" i="1" lang="en-US" sz="3200" spc="-1" strike="noStrike">
                <a:solidFill>
                  <a:srgbClr val="545472"/>
                </a:solidFill>
                <a:latin typeface="Tahoma"/>
              </a:rPr>
              <a:t>no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t is not just a simple matter to decide whether to use a menu or a command type of interface, if you consider the problem in its broader perspective and take into account all the factors that influence us and others in regard to using a compute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2FD-AC26-4197-B247-DC864620F2C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roader Issues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e are not interested in ‘user friendliness’ 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ser friendly’ is an anthropomorphic term.  Do you wish to be friends with your computer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45472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t is unidimensional.  The system is either user friendly or not!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61E-1820-4EB3-A971-1FD0F527016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8T12:31:12Z</dcterms:created>
  <dc:creator>James Blustein</dc:creator>
  <dc:description>Based on a Power Point presentation from Laura Leventhal at BGSU Computer Science</dc:description>
  <dc:language>en-US</dc:language>
  <cp:lastModifiedBy>Preferred Customer</cp:lastModifiedBy>
  <dcterms:modified xsi:type="dcterms:W3CDTF">2001-05-08T04:23:33Z</dcterms:modified>
  <cp:revision>51</cp:revision>
  <dc:subject>Human Computer Interaction - intro (part 2)</dc:subject>
  <dc:title>Historical Perspective on  HCI</dc:title>
</cp:coreProperties>
</file>