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 Norman’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Invisible Computer: Why Good Products Can Fail, The Personal Computer Is So Complex, And Information Appliances Are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MIT Press, ©1998 by the author) has a good intro that could be used to update these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eker:   Ronald Ba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sion of Education in User-Centered System and Interface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GCHI Bullet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.20 n.3 (Jan.)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and comment in text about 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is the complexity of H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lver Bull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s of HCI Design and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Brad A. M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.I n.1 (Jan. 1994), pp. 73 – 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bar explaining why developing UIs is so complex and difficult (p. 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&amp;H: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  Hix and H. Rex Hart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User Interfaces: Ensuring Usability through Product &amp;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1993 by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h_1.pd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igures 1.1, and 1.2, and Tabl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orking definition of usability.  We'll examine some model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&amp;H: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  Hix and H. Rex Hart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User Interfaces: Ensuring Usability through Product &amp;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1993 by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h_1.pd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igures 1.1, and 1.2, and Tabl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line for concern about usabilty (computers and other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no one would claim that the Wright Flyer was usable or easy to fly.  The challenge was to develop the technology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hnology is the limiting f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ors are still dedicated enthusias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years of aviation,  every plane was custom built, usually by the pi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hnology is still the limiting factor, but the demand for more operators means that it is less controlled by enthusi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g.  WW1 pilots, Red Baron...).  Selection and training become cr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actors starts to be important - ensuring that the required skills are train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ing factor is no longer what the technology can do, but what the operator can learn to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Once the human becomes a limiting factor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oncern about usabilit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becomes a f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of cockpit design and cockpit ergonomics became a serious area of study during and after WWI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Trends in computing that led to the emergence of the field of H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 processing: the user interfaces were card reader, print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haring - early 1960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haring and Distribution processing (60's) remote data  entry/ display: user interfaces were Tele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's/80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rections in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-line(interactive interface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s &amp; micros (mid 70'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and-alone;   personal comput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tations -80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erox Parc - star, Lisa -&gt; Macinto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that changed over time and affected h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's                Graph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'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'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-map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siwy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morphization: See H&amp;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2.3.8 (pp. 43 – 4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72E-F99B-4FA7-BC73-0F7BE20A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8D0-AA45-460E-B34C-47C992F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6D6-C3DC-41A8-9EFA-89B050B3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25A-8D78-45ED-821A-5F19D677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6E90-9C0E-4827-86DE-B1E3E213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6459-5091-4AD7-9BBD-B625E01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8886-D6E7-4F4D-900A-B29C47AA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FD76-3D81-43F8-BEA9-D6E2B8BF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C554-F5FB-4E2B-9438-038F9B7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B524-4407-4556-B07F-C5322A5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FCCD-4843-4B6E-A2E2-A8EA978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7A0-5EE6-4561-8EDA-10202B44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C57F-D5AD-4966-8D69-21CD5B6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4812-F323-4ECE-B255-F74D5E6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C28D-0729-4C89-8FEA-3E0C94C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F9B3-8136-47D8-9215-9A35E112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C118-911B-4A4C-A891-F062E7F8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3DD-56E4-4903-BC5C-C5A1FAC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FEB-7B1A-4807-888F-15B545B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A48-EDA4-439E-AD7A-02459BB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0E8-F053-4155-96D5-D2C4CADC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CC6-0D74-42A7-B36A-CE751C1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407-F015-48AB-BE73-7E15E087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1D6-B457-4DDB-A003-A492314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FD21-B692-4DCA-95D9-AF223F0574A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796-AF4F-4188-8891-66A308DA038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ical Perspective on H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S 416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roader Issue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Baecke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igu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No silver bullet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deb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g. 1.2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from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Hix &amp; Harts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3AE-96C4-41D4-8C00-958BD62F1B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nitions of HCI &amp; Usa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uman computer interaction (HCI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scipline concerned with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ign, evaluation and implementation of interactive computing systems for human u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udy of the major phenomena surrounding interactive computing systems for human u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abilit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nterface appropriate for the users for the task that they are using for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0FD-4022-4266-9567-B9CAAEE158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suring Usa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wo components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roduct — the user interface itself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ent, human factors issues, design guidelines and interaction styl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rocess — how to develop the U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ifecycle, methods, techniques and tools for developing and U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F21-922A-4663-8C7E-BD04306C7D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havioural &amp; Constructional Domai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e table 1.1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from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Hix &amp; Harts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r focus is on the behavioural doma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559-9200-4EE4-B8DB-AF761D46A9E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73200" y="3124080"/>
            <a:ext cx="7569000" cy="0"/>
          </a:xfrm>
          <a:prstGeom prst="line">
            <a:avLst/>
          </a:prstGeom>
          <a:ln w="127080">
            <a:solidFill>
              <a:srgbClr val="c7c7d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4200" y="3414600"/>
            <a:ext cx="160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Innov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3160" y="3338640"/>
            <a:ext cx="2045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Technology i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the limiting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a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6200" y="3262320"/>
            <a:ext cx="1748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emand f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opera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0240" y="3276720"/>
            <a:ext cx="1301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once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usabili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ological Innovations Follow a 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2DE-243B-4E56-884C-15018D2C47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ree Trends in CS Raise Awareness of Usa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ardware enviro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ypes/sophistication of us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w applicatio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405-6808-432F-8272-9951DB0A0D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1800" y="2743200"/>
            <a:ext cx="7264440" cy="0"/>
          </a:xfrm>
          <a:prstGeom prst="line">
            <a:avLst/>
          </a:prstGeom>
          <a:ln w="127080">
            <a:solidFill>
              <a:srgbClr val="c7c7d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800" y="2728800"/>
            <a:ext cx="1487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5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t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15720" y="2805120"/>
            <a:ext cx="172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6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ime-shar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4440" y="2805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8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19160" y="2805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7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37600" y="2805120"/>
            <a:ext cx="22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90’s / forw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7320" y="3490920"/>
            <a:ext cx="1659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eractiv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on-li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ini/micr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87360" y="3414600"/>
            <a:ext cx="2395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workstatio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aphical display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ing pow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or multi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dware Cha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5F5-BB78-4847-B27F-3082377A88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er Cha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uting professionals vs. Discretionary us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ortion has changed: more discretionary user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rs are more sophisticated and demand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228-6763-4444-9D10-0EF1B1BD78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1800" y="2743200"/>
            <a:ext cx="7264440" cy="0"/>
          </a:xfrm>
          <a:prstGeom prst="line">
            <a:avLst/>
          </a:prstGeom>
          <a:ln w="127080">
            <a:solidFill>
              <a:srgbClr val="c7c7d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4280" y="2728800"/>
            <a:ext cx="2535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5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tch tex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mputational s/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eteorologi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nk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4440" y="2805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8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17360" y="2805120"/>
            <a:ext cx="14875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7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eap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mprove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usines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37600" y="2805120"/>
            <a:ext cx="22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90’s / forw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489480"/>
            <a:ext cx="16574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72960" y="3567240"/>
            <a:ext cx="318780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ersonal computer ap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(e.g. spreadsheets, wor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processing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it-mapped graphic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hypertex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 Cha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005-CE83-4E76-A918-A2F46851D1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Improve UI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ttle agreement in late 1970s and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80s  even now, many view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llow guidelines — intuitiv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fine &amp; try prototype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—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quasi-experienti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eriments:  laboratory </a:t>
            </a:r>
            <a:r>
              <a:rPr b="0" lang="en-US" sz="2400" spc="-1" strike="noStrike">
                <a:solidFill>
                  <a:srgbClr val="545472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bservation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will look at all three approach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D2E-EAE7-403B-95DC-3B78C7FEEA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roader Issue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CI is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ust a simple matter to decide whether to use a menu or a command type of interfa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sider the problem broader perspec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ake into account all factors that influence us and others in regard to using comput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3E7-6656-4729-8AE4-DFC221CD7F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roader Issue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are not interested in ‘user friendliness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r friendly’ is an anthropomorphic term.  Do you wish to be friends with your computer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is one-dimensional.                            The system is either user friendly or no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171-A03E-45D9-A13F-A0F46070B3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8T12:31:12Z</dcterms:created>
  <dc:creator>James Blustein</dc:creator>
  <dc:description>Based on a Power Point presentation from Laura Leventhal at BGSU Computer Science</dc:description>
  <dc:language>en-US</dc:language>
  <cp:lastModifiedBy>Preferred Customer</cp:lastModifiedBy>
  <dcterms:modified xsi:type="dcterms:W3CDTF">2001-06-02T18:15:55Z</dcterms:modified>
  <cp:revision>61</cp:revision>
  <dc:subject>Human Computer Interaction - intro (part 2)</dc:subject>
  <dc:title>Historical Perspective on  HCI</dc:title>
</cp:coreProperties>
</file>